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5.png" ContentType="image/png"/>
  <Override PartName="/ppt/media/image29.jpeg" ContentType="image/jpeg"/>
  <Override PartName="/ppt/media/image4.jpeg" ContentType="image/jpeg"/>
  <Override PartName="/ppt/media/image2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C0C-4E29-4760-ADB7-4F4776BC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7347-7060-436E-BD09-D3E6F2B2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8BDE-3A78-472E-AAEE-F257750C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92F9-FC7E-4B37-AE9F-5CDA4501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75AB-E05E-4D0E-9542-FEC2C2B4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B649-A86D-42B7-93DD-2D9B27A1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A87-97CD-42A0-AB20-A971AA10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08CE-32F6-4070-86F7-F184AB05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F631-43F7-4257-B62E-759CE5E5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062-87D1-41DA-A26C-363E78ED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50A-D8AD-4581-A52E-8ED6D942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BC9-38D4-49E5-8BC9-60D44A79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E924B-DA49-4272-A74A-52842357F81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20720" y="2160720"/>
            <a:ext cx="8999640" cy="5040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3080" y="3301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80099"/>
                </a:solidFill>
                <a:latin typeface="Arial"/>
              </a:rPr>
              <a:t>Экспресс анализ записей R-R интервалов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920000" y="4572000"/>
            <a:ext cx="1800360" cy="1598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0" t="24945" r="0" b="39905"/>
          <a:stretch/>
        </p:blipFill>
        <p:spPr>
          <a:xfrm>
            <a:off x="3168720" y="5094360"/>
            <a:ext cx="4762440" cy="1673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rcRect l="14975" t="4989" r="19964" b="4989"/>
          <a:stretch/>
        </p:blipFill>
        <p:spPr>
          <a:xfrm>
            <a:off x="720720" y="2735280"/>
            <a:ext cx="25588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360" y="239760"/>
            <a:ext cx="95392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9. Варианты отклонени</a:t>
            </a:r>
            <a:r>
              <a:rPr b="1" lang="en-US" sz="3600" spc="-1" strike="noStrike">
                <a:solidFill>
                  <a:srgbClr val="280099"/>
                </a:solidFill>
                <a:latin typeface="Arial"/>
              </a:rPr>
              <a:t>й. АВ-блокада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39640" y="7016760"/>
            <a:ext cx="93600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80099"/>
                </a:solidFill>
                <a:latin typeface="Arial"/>
              </a:rPr>
              <a:t>Ритмограмма при атриовентрикулярной блокаде  2-й степени. Видны «пропуски» удар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9040" y="1001880"/>
            <a:ext cx="9372600" cy="5838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79640" y="3959280"/>
            <a:ext cx="453096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239760"/>
            <a:ext cx="95392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10. Нарушения ритма на скатерограмме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39640" y="6783480"/>
            <a:ext cx="93600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80099"/>
                </a:solidFill>
                <a:latin typeface="Arial"/>
              </a:rPr>
              <a:t>Примеры скатерограмм, на которых можно увидеть нарушения ритм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31640" y="1641600"/>
            <a:ext cx="4716720" cy="4514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219640" y="1655640"/>
            <a:ext cx="468000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239760"/>
            <a:ext cx="98996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11. </a:t>
            </a:r>
            <a:r>
              <a:rPr b="1" lang="en-US" sz="3600" spc="-1" strike="noStrike">
                <a:solidFill>
                  <a:srgbClr val="280099"/>
                </a:solidFill>
                <a:latin typeface="Arial"/>
              </a:rPr>
              <a:t>Анализ записи </a:t>
            </a: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R-R во время нагрузки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39640" y="7016760"/>
            <a:ext cx="93600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80099"/>
                </a:solidFill>
                <a:latin typeface="Arial"/>
              </a:rPr>
              <a:t>Типичная ритмограмма, записанная при тестировании на велоэргометр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3960" y="1260360"/>
            <a:ext cx="9409320" cy="52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239760"/>
            <a:ext cx="98996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12. Экстрасистолы во время нагрузки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9640" y="6904080"/>
            <a:ext cx="936000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80099"/>
                </a:solidFill>
                <a:latin typeface="Arial"/>
              </a:rPr>
              <a:t>При работе на мощности, близкой к АнП, частота возникновения экстрасистол возрастает значительно. Необходимо прерывать тестировани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900000"/>
            <a:ext cx="8999640" cy="4348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9640" y="5270400"/>
            <a:ext cx="5400720" cy="1533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0" t="0" r="49825" b="0"/>
          <a:stretch/>
        </p:blipFill>
        <p:spPr>
          <a:xfrm>
            <a:off x="6119640" y="5256360"/>
            <a:ext cx="3737160" cy="107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920" y="239760"/>
            <a:ext cx="98996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13. Экстрасистолы во время тренировки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640" y="7143840"/>
            <a:ext cx="93600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80099"/>
                </a:solidFill>
                <a:latin typeface="Arial"/>
              </a:rPr>
              <a:t>Экстрасистолы на записях, сделанных во время трениров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55800" y="1092240"/>
            <a:ext cx="6715080" cy="59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239760"/>
            <a:ext cx="98996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14. Экстрасистолы и сбои записи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9640" y="7143840"/>
            <a:ext cx="93600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80099"/>
                </a:solidFill>
                <a:latin typeface="Arial"/>
              </a:rPr>
              <a:t>Экстрасистолы и ошибки записи, отмеченные стрелочк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3702" b="0"/>
          <a:stretch/>
        </p:blipFill>
        <p:spPr>
          <a:xfrm>
            <a:off x="417600" y="1116000"/>
            <a:ext cx="93628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239760"/>
            <a:ext cx="98996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15. Сбои записи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640" y="6840000"/>
            <a:ext cx="9360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80099"/>
                </a:solidFill>
                <a:latin typeface="Arial"/>
              </a:rPr>
              <a:t>В данном случае «борода» на ритмограмме не имеет отношения к нарушениям ритма сердца, это типичные ошибки записи монитора ЧС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6631" b="0"/>
          <a:stretch/>
        </p:blipFill>
        <p:spPr>
          <a:xfrm>
            <a:off x="442800" y="1260360"/>
            <a:ext cx="9428400" cy="537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8920" y="222120"/>
            <a:ext cx="98996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16. Выявление экстрасистол на шумной записи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39640" y="7143840"/>
            <a:ext cx="93600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80099"/>
                </a:solidFill>
                <a:latin typeface="Arial"/>
              </a:rPr>
              <a:t>При масштабировании можно рассмотреть экстрасистолы и ошибки запис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00360" y="1305000"/>
            <a:ext cx="67626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8920" y="239760"/>
            <a:ext cx="98996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17. Технические особенности МСР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9640" y="4925520"/>
            <a:ext cx="3780000" cy="2568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"/>
              </a:rPr>
              <a:t>Износ пояса, конкретный экземпляр датчика или часов могут служить источником «шума» на записи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ед проведением диагностики желательно убедиться в работоспособности часов и пояса с датчик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31640" y="1044720"/>
            <a:ext cx="5400720" cy="3779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00720" y="4781520"/>
            <a:ext cx="5400360" cy="2598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940360" y="2052720"/>
            <a:ext cx="395928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"/>
              </a:rPr>
              <a:t>Металлизированная нить, которая включена в ткань в области контактов может со временем изнашиваться. Потрепанный внешний вид хвостика пояса может косвенно указывать на износ  контактн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9640" y="720720"/>
            <a:ext cx="3600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50e"/>
                </a:solidFill>
                <a:latin typeface="Arial"/>
              </a:rPr>
              <a:t>Испытания проводил Сергей Бирю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401400"/>
            <a:ext cx="989964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18. Изменение спектра ВРС в зависимости от периода подготовки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39640" y="4319640"/>
            <a:ext cx="9360000" cy="3176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"/>
              </a:rPr>
              <a:t>Пример из опыта подготовки итальянских гребц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80099"/>
                </a:solidFill>
                <a:latin typeface="Arial"/>
              </a:rPr>
              <a:t>Слева – спектр в переходном периоде, в этот период средняя ЧСС покоя 56 ударов в минут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80099"/>
                </a:solidFill>
                <a:latin typeface="Arial"/>
              </a:rPr>
              <a:t>В середине – спектр в подготовительном периоде со средней нагрузкой. Явное преобладание </a:t>
            </a:r>
            <a:r>
              <a:rPr b="1" lang="en-US" sz="1600" spc="-1" strike="noStrike">
                <a:solidFill>
                  <a:srgbClr val="280099"/>
                </a:solidFill>
                <a:latin typeface="Arial"/>
              </a:rPr>
              <a:t>HF </a:t>
            </a:r>
            <a:r>
              <a:rPr b="1" lang="ru-RU" sz="1600" spc="-1" strike="noStrike">
                <a:solidFill>
                  <a:srgbClr val="280099"/>
                </a:solidFill>
                <a:latin typeface="Arial"/>
              </a:rPr>
              <a:t>компоненты </a:t>
            </a:r>
            <a:r>
              <a:rPr b="1" lang="en-US" sz="1600" spc="-1" strike="noStrike">
                <a:solidFill>
                  <a:srgbClr val="280099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280099"/>
                </a:solidFill>
                <a:latin typeface="Arial"/>
              </a:rPr>
              <a:t>высокий</a:t>
            </a:r>
            <a:r>
              <a:rPr b="1" lang="en-US" sz="1600" spc="-1" strike="noStrike">
                <a:solidFill>
                  <a:srgbClr val="28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80099"/>
                </a:solidFill>
                <a:latin typeface="Arial"/>
              </a:rPr>
              <a:t>острый пик. Средняя ЧСС покоя снижается до 50 ударов в минут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80099"/>
                </a:solidFill>
                <a:latin typeface="Arial"/>
              </a:rPr>
              <a:t>Справа – спектр в период подводки к Чемпионату Мира. Идут интервальные скоростные тренировки. Преобладание </a:t>
            </a:r>
            <a:r>
              <a:rPr b="1" lang="en-US" sz="1600" spc="-1" strike="noStrike">
                <a:solidFill>
                  <a:srgbClr val="280099"/>
                </a:solidFill>
                <a:latin typeface="Arial"/>
              </a:rPr>
              <a:t>LF</a:t>
            </a:r>
            <a:r>
              <a:rPr b="1" lang="ru-RU" sz="1600" spc="-1" strike="noStrike">
                <a:solidFill>
                  <a:srgbClr val="280099"/>
                </a:solidFill>
                <a:latin typeface="Arial"/>
              </a:rPr>
              <a:t> компоненты, пик </a:t>
            </a:r>
            <a:r>
              <a:rPr b="1" lang="en-US" sz="1600" spc="-1" strike="noStrike">
                <a:solidFill>
                  <a:srgbClr val="280099"/>
                </a:solidFill>
                <a:latin typeface="Arial"/>
              </a:rPr>
              <a:t>HF</a:t>
            </a:r>
            <a:r>
              <a:rPr b="1" lang="ru-RU" sz="1600" spc="-1" strike="noStrike">
                <a:solidFill>
                  <a:srgbClr val="280099"/>
                </a:solidFill>
                <a:latin typeface="Arial"/>
              </a:rPr>
              <a:t> сместился вправо (частота дыхания в покое увеличилась). Средняя ЧСС покоя повысилась до 61 удара в минут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4120" y="1533600"/>
            <a:ext cx="9698040" cy="27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239400"/>
            <a:ext cx="86090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280099"/>
                </a:solidFill>
                <a:latin typeface="Arial"/>
              </a:rPr>
              <a:t>1. Вариабельность ритма сердца. </a:t>
            </a: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651672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280099"/>
                </a:solidFill>
                <a:latin typeface="Arial"/>
              </a:rPr>
              <a:t>Вид ритмограммы, записанной в режиме </a:t>
            </a:r>
            <a:r>
              <a:rPr b="1" lang="en-US" sz="1400" spc="-1" strike="noStrike">
                <a:solidFill>
                  <a:srgbClr val="280099"/>
                </a:solidFill>
                <a:latin typeface="Arial"/>
              </a:rPr>
              <a:t>R-R</a:t>
            </a:r>
            <a:r>
              <a:rPr b="1" lang="ru-RU" sz="1400" spc="-1" strike="noStrike">
                <a:solidFill>
                  <a:srgbClr val="280099"/>
                </a:solidFill>
                <a:latin typeface="Arial"/>
              </a:rPr>
              <a:t> в программе </a:t>
            </a:r>
            <a:r>
              <a:rPr b="1" lang="en-US" sz="1400" spc="-1" strike="noStrike">
                <a:solidFill>
                  <a:srgbClr val="280099"/>
                </a:solidFill>
                <a:latin typeface="Arial"/>
              </a:rPr>
              <a:t>Polar ProTrainer</a:t>
            </a:r>
            <a:r>
              <a:rPr b="1" lang="ru-RU" sz="1400" spc="-1" strike="noStrike">
                <a:solidFill>
                  <a:srgbClr val="280099"/>
                </a:solidFill>
                <a:latin typeface="Arial"/>
              </a:rPr>
              <a:t>. В режиме </a:t>
            </a:r>
            <a:r>
              <a:rPr b="1" lang="en-US" sz="1400" spc="-1" strike="noStrike">
                <a:solidFill>
                  <a:srgbClr val="280099"/>
                </a:solidFill>
                <a:latin typeface="Arial"/>
              </a:rPr>
              <a:t>R-R</a:t>
            </a:r>
            <a:r>
              <a:rPr b="1" lang="ru-RU" sz="1400" spc="-1" strike="noStrike">
                <a:solidFill>
                  <a:srgbClr val="280099"/>
                </a:solidFill>
                <a:latin typeface="Arial"/>
              </a:rPr>
              <a:t> записываются интервалы времени между каждым сокращением желудочков сердца (</a:t>
            </a:r>
            <a:r>
              <a:rPr b="1" lang="en-US" sz="1400" spc="-1" strike="noStrike">
                <a:solidFill>
                  <a:srgbClr val="280099"/>
                </a:solidFill>
                <a:latin typeface="Arial"/>
              </a:rPr>
              <a:t>на </a:t>
            </a:r>
            <a:r>
              <a:rPr b="1" lang="ru-RU" sz="1400" spc="-1" strike="noStrike">
                <a:solidFill>
                  <a:srgbClr val="280099"/>
                </a:solidFill>
                <a:latin typeface="Arial"/>
              </a:rPr>
              <a:t>Э</a:t>
            </a:r>
            <a:r>
              <a:rPr b="1" lang="en-US" sz="1400" spc="-1" strike="noStrike">
                <a:solidFill>
                  <a:srgbClr val="280099"/>
                </a:solidFill>
                <a:latin typeface="Arial"/>
              </a:rPr>
              <a:t>КГ</a:t>
            </a:r>
            <a:r>
              <a:rPr b="1" lang="ru-RU" sz="1400" spc="-1" strike="noStrike">
                <a:solidFill>
                  <a:srgbClr val="280099"/>
                </a:solidFill>
                <a:latin typeface="Arial"/>
              </a:rPr>
              <a:t> сокращению желудочков соответствует зубец </a:t>
            </a:r>
            <a:r>
              <a:rPr b="1" lang="en-US" sz="1400" spc="-1" strike="noStrike">
                <a:solidFill>
                  <a:srgbClr val="280099"/>
                </a:solidFill>
                <a:latin typeface="Arial"/>
              </a:rPr>
              <a:t>R</a:t>
            </a:r>
            <a:r>
              <a:rPr b="1" lang="ru-RU" sz="1400" spc="-1" strike="noStrike">
                <a:solidFill>
                  <a:srgbClr val="280099"/>
                </a:solidFill>
                <a:latin typeface="Arial"/>
              </a:rPr>
              <a:t>).</a:t>
            </a:r>
            <a:r>
              <a:rPr b="1" lang="en-US" sz="1400" spc="-1" strike="noStrike">
                <a:solidFill>
                  <a:srgbClr val="280099"/>
                </a:solidFill>
                <a:latin typeface="Arial"/>
              </a:rPr>
              <a:t> В программе</a:t>
            </a:r>
            <a:r>
              <a:rPr b="1" lang="ru-RU" sz="1400" spc="-1" strike="noStrike">
                <a:solidFill>
                  <a:srgbClr val="28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280099"/>
                </a:solidFill>
                <a:latin typeface="Arial"/>
              </a:rPr>
              <a:t>Polar ProTrainer</a:t>
            </a:r>
            <a:r>
              <a:rPr b="1" lang="ru-RU" sz="1400" spc="-1" strike="noStrike">
                <a:solidFill>
                  <a:srgbClr val="280099"/>
                </a:solidFill>
                <a:latin typeface="Arial"/>
              </a:rPr>
              <a:t> эти интервалы пересчитываются в значения ЧСС в минуту и в таком виде отображаются на график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9640" y="1008000"/>
            <a:ext cx="9360000" cy="5483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4987" t="0" r="44907" b="0"/>
          <a:stretch/>
        </p:blipFill>
        <p:spPr>
          <a:xfrm>
            <a:off x="1425600" y="3780000"/>
            <a:ext cx="3973320" cy="1738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020000" y="3419640"/>
            <a:ext cx="2592360" cy="25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237600"/>
            <a:ext cx="989964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539640" y="1260000"/>
            <a:ext cx="9360000" cy="61023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80099"/>
                </a:solidFill>
                <a:latin typeface="Arial"/>
              </a:rPr>
              <a:t>Спасибо за внимание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80099"/>
                </a:solidFill>
                <a:latin typeface="Arial"/>
              </a:rPr>
              <a:t>Александр Вертышев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80099"/>
                </a:solidFill>
                <a:latin typeface="Arial"/>
              </a:rPr>
              <a:t>Сергей Бирю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80099"/>
                </a:solidFill>
                <a:latin typeface="Arial"/>
              </a:rPr>
              <a:t>2010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0960" y="239760"/>
            <a:ext cx="89676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2. Численная оценка вариабельности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9640" y="7113600"/>
            <a:ext cx="93600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кно с  показателями выделенного участка ритмограммы в программе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lar ProTrai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4962" t="0" r="0" b="0"/>
          <a:stretch/>
        </p:blipFill>
        <p:spPr>
          <a:xfrm>
            <a:off x="539640" y="1044720"/>
            <a:ext cx="9360000" cy="597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000" y="1222200"/>
            <a:ext cx="598140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0960" y="239760"/>
            <a:ext cx="86090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3. Спектр вариабельности ритма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9640" y="6926040"/>
            <a:ext cx="9360000" cy="23940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80099"/>
                </a:solidFill>
                <a:latin typeface="Arial"/>
              </a:rPr>
              <a:t>Схема волновой структуры ритмограммы и формирования спектрограмм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76280" y="1260360"/>
            <a:ext cx="4924440" cy="5400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580000" y="1260360"/>
            <a:ext cx="42404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4. Ориентировочные нормы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079280" y="2043000"/>
            <a:ext cx="824868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Здоровый человек </a:t>
            </a: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Total Power &gt; 3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Здоровый спортсмен </a:t>
            </a: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Total Power &gt; 7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Отношение LF/HF  &lt;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Нормотоники </a:t>
            </a: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LF/HF ~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Симпатоники  </a:t>
            </a: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LF/HF &gt;&gt;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Ваготоники  </a:t>
            </a: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80099"/>
                </a:solidFill>
                <a:latin typeface="Arial"/>
              </a:rPr>
              <a:t>LF/HF &lt;&lt;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19320" y="5543640"/>
            <a:ext cx="598176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0960" y="239760"/>
            <a:ext cx="86090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5. Дыхательная волна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39640" y="7016760"/>
            <a:ext cx="93600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280099"/>
                </a:solidFill>
                <a:latin typeface="Arial"/>
              </a:rPr>
              <a:t>Ритмограмма</a:t>
            </a:r>
            <a:r>
              <a:rPr b="1" lang="ru-RU" sz="1600" spc="-1" strike="noStrike">
                <a:solidFill>
                  <a:srgbClr val="280099"/>
                </a:solidFill>
                <a:latin typeface="Arial"/>
              </a:rPr>
              <a:t> в покое сильного юноши в хорошем состоян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38120" y="965160"/>
            <a:ext cx="9391680" cy="59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0960" y="239760"/>
            <a:ext cx="86090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6. Оценка состояния спортсмена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9640" y="7016760"/>
            <a:ext cx="93600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80099"/>
                </a:solidFill>
                <a:latin typeface="Arial"/>
              </a:rPr>
              <a:t>Ритмограмма «замученной» девуш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38120" y="987480"/>
            <a:ext cx="939168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0960" y="239760"/>
            <a:ext cx="86090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7. Спектр HF и дыхательная волна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9640" y="7016760"/>
            <a:ext cx="93600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80099"/>
                </a:solidFill>
                <a:latin typeface="Arial"/>
              </a:rPr>
              <a:t>Пример ритмограммы с  дыхательной волной с частотой 9-10 циклов в минут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10026" r="0" b="0"/>
          <a:stretch/>
        </p:blipFill>
        <p:spPr>
          <a:xfrm>
            <a:off x="431640" y="1065240"/>
            <a:ext cx="933480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360" y="239760"/>
            <a:ext cx="93600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8. Варианты отклонени</a:t>
            </a:r>
            <a:r>
              <a:rPr b="1" lang="en-US" sz="3600" spc="-1" strike="noStrike">
                <a:solidFill>
                  <a:srgbClr val="280099"/>
                </a:solidFill>
                <a:latin typeface="Arial"/>
              </a:rPr>
              <a:t>й. Тахикардия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9640" y="7016760"/>
            <a:ext cx="93600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80099"/>
                </a:solidFill>
                <a:latin typeface="Arial"/>
              </a:rPr>
              <a:t>Пример 1. Тахикардия, очень сильное влияние симпатического отдела ВН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4982" r="0" b="4982"/>
          <a:stretch/>
        </p:blipFill>
        <p:spPr>
          <a:xfrm>
            <a:off x="536400" y="1041480"/>
            <a:ext cx="9267840" cy="579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24120" y="4148280"/>
            <a:ext cx="6096240" cy="150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1:42:03Z</dcterms:created>
  <dc:creator>Александр Вертышев</dc:creator>
  <dc:description/>
  <dc:language>en-US</dc:language>
  <cp:lastModifiedBy>Александр Вертышев</cp:lastModifiedBy>
  <dcterms:modified xsi:type="dcterms:W3CDTF">2010-06-03T08:55:31Z</dcterms:modified>
  <cp:revision>48</cp:revision>
  <dc:subject/>
  <dc:title/>
</cp:coreProperties>
</file>